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5.png" ContentType="image/png"/>
  <Override PartName="/ppt/media/image1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applause.wav" ContentType="audio/x-wav"/>
  <Override PartName="/ppt/media/image15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wmf" ContentType="image/x-wmf"/>
  <Override PartName="/ppt/media/image24.wmf" ContentType="image/x-wmf"/>
  <Override PartName="/ppt/media/image22.wmf" ContentType="image/x-wmf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  <p:custShowLst>
    <p:custShow name="Pokaz niestandardowy 1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A643-6C67-40E0-BF5E-67212475E75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2A36-89C6-4051-A8F7-87D75674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6B4-4109-43EB-A380-C8C78125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289B-B566-4DC6-AD76-D94D58CB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A440-40DD-4A10-A551-2EBACDAD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A5AA-63AD-4677-975E-6DB08545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FDF1-3CB2-48CC-BCBB-2CD9C5E8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0C52-FF66-4709-8AE6-064CA82A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3A43-BE69-47F0-B713-6F3CA643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F3E6-C1AE-411E-8767-E18E01B0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3E47-A921-4399-B464-CBFEFCAE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17F8-7C8F-46C8-984B-0F310992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2CA-5714-4B1F-9B7A-0D477068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2897-272B-4823-84CF-5BEC00D0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1B52-68E8-487B-BB59-68ECC665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073A-7F76-400D-8E24-2FF8D509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4218-A906-4AC0-B8EA-782BBEE9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5E8F-5F5E-42C5-96D4-F18C17CE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AD9-A935-4FC5-8C40-2DB941E3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EBBA-BC16-498B-B078-A059DF7C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679B-724E-401A-A442-D9679863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57F-6560-447A-B2E4-71523A19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E5AA-22D6-4A7D-BE23-515CB4D9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E8B0-41AD-443F-835B-3F01D474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F569-3B9B-4FA8-9699-1F724137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FCF7-9801-427C-BD73-7A68B380D4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E546-DC45-45C5-B484-6A2D45391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WIERDZENIE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ITAGORASA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Opracowanie: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gr Emilia Pawłowska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51051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457200"/>
            <a:ext cx="4267080" cy="4648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 trójkąci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stokątnym sum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ól kwadratów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zbudowanych 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zyprostokątny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est równa polu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wadrat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zbudowanego n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zeciwprostokątnej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198108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2924280"/>
            <a:ext cx="13716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1905120"/>
            <a:ext cx="1371600" cy="990360"/>
          </a:xfrm>
          <a:prstGeom prst="rtTriangl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74800">
            <a:off x="6495840" y="847440"/>
            <a:ext cx="1695240" cy="1754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5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widłowość tę odkrył grecki matematyk Pitagoras, żyjący w latach ok. 572-497 p.n.e. i dlatego nazywamy ją twierdzeniem Pitagora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zasadniając własność PITAGORASA wykorzystamy układankę starą jak świa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zygotowałam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8 jednakowych trójkątów prostokątny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bokach a,b,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3 kwadraty o bokach odpowiednio a,b,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2063880"/>
          <a:ext cx="3809880" cy="394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63880"/>
                    <a:ext cx="380988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34120" y="838080"/>
          <a:ext cx="5294160" cy="3886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838080"/>
                    <a:ext cx="52941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H="1" flipV="1">
            <a:off x="608400" y="60876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304200" y="41148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1142640" y="3042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11640" y="3213000"/>
            <a:ext cx="2592360" cy="302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 rot="5400000">
            <a:off x="1294200" y="44190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228600"/>
            <a:ext cx="2158920" cy="2408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1219320"/>
            <a:ext cx="9619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 rot="5400000">
            <a:off x="913320" y="365688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976600">
            <a:off x="-228600" y="358092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7480800">
            <a:off x="1065960" y="281916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0800000">
            <a:off x="-360" y="137088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Z takich elementów ułożę teraz dwie figury o identycznym polu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562360" y="380880"/>
            <a:ext cx="2895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pierwszym rysunku widać cztery jednakowe trójkąty prostokątne o bokach a,b,c ułożone w taki sposób, że wewnątrz powstał kwadrat o boku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-838080" y="762120"/>
          <a:ext cx="7124760" cy="52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762120"/>
                    <a:ext cx="712476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-838080" y="0"/>
          <a:ext cx="5753160" cy="43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0"/>
                    <a:ext cx="575316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28840" y="388584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drugim rysunku te same trójkąty ułożone zostały inaczej, tak że pojawiły się dwa mniejsze kwadra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19720" y="685800"/>
          <a:ext cx="4419360" cy="339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685800"/>
                    <a:ext cx="4419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0" y="533520"/>
          <a:ext cx="4343400" cy="3543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3520"/>
                    <a:ext cx="434340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wstały w ten sposób dwie figury o identycznym polu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a przedstawionych figur nie ulegną zmianie, jeżeli będziemy zabierać identyczne kawałk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114800" y="0"/>
          <a:ext cx="5029200" cy="29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0"/>
                    <a:ext cx="502920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267080" y="3429000"/>
          <a:ext cx="4243680" cy="3168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429000"/>
                    <a:ext cx="42436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-838080" y="0"/>
          <a:ext cx="6819840" cy="46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0"/>
                    <a:ext cx="68198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3505320" y="2924280"/>
          <a:ext cx="5295960" cy="3781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924280"/>
                    <a:ext cx="529596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ÓJKĄTY.......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ÓJKĄ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to płaska figura geometryczna złożona z trzech boków i trzech kątów. Suma miar kątów wewnętrznych każdego trójkąta wynosi 18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114440" y="4114800"/>
            <a:ext cx="1066680" cy="1828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5943600"/>
            <a:ext cx="32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4114800"/>
            <a:ext cx="221004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-609480" y="0"/>
          <a:ext cx="5257800" cy="393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0"/>
                    <a:ext cx="525780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343400" y="533520"/>
          <a:ext cx="5791320" cy="3182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533520"/>
                    <a:ext cx="579132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 dwa mniejsze kwadraty mają takie sam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e, jak kwadrat na rysunku po prawe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on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pisz wyrażenie, opisujące pola kwadratów na rysunka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-757080" y="2565360"/>
          <a:ext cx="49734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57080" y="2565360"/>
                    <a:ext cx="49734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191120" y="1752480"/>
          <a:ext cx="5943600" cy="3189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1752480"/>
                    <a:ext cx="594360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62120" y="1676520"/>
          <a:ext cx="7772400" cy="410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a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+b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=c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endParaRPr b="0" lang="en-US" sz="15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Zatem twierdzeni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         </a:t>
            </a: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zostało                   udowodnione!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Times New Roman"/>
              </a:rPr>
              <a:t>Stosując twierdzenie Pitagorasa, możemy obliczyć długość jednego z boków trójkąta prostokątnego, gdy znane są długości dwóch pozostałych boków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KONIEC..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dzaje trójkątów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1828800"/>
          <a:ext cx="82296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229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jmijmy się trójkątem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stokątny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st to taki trójkąt, który posiada jeden kąt prosty, czyli równy 9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990720"/>
            <a:ext cx="2895480" cy="4572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OKI TAKIEGO TRÓJKĄTA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- przy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- przy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- przeciw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43040" y="245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40680" y="25178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876920" y="1447920"/>
          <a:ext cx="380844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447920"/>
                    <a:ext cx="3808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477120" y="7621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75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75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75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75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75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ż ponad 2500 lat temu zauważono, że jeśli kąt między danymi bokami jest prosty, to trzeci bok trójkąta nie tylko można skonstruować, ale także łatwo obliczyć jego długość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1981080"/>
          <a:ext cx="392436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3924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380520"/>
            <a:ext cx="3581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patrzcie na rysunek obok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bokach trójkąta prostokątnego zbudowano kwadra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ównam sumę pól dwóch mniejszych kwadratów z polem większego kwadrat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10000" y="36352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457880" y="3645000"/>
            <a:ext cx="133200" cy="152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10000" y="36352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140360" y="404640"/>
            <a:ext cx="4443120" cy="568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828800"/>
          <a:ext cx="253512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2535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276720" y="2590920"/>
          <a:ext cx="2819160" cy="2590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590920"/>
                    <a:ext cx="28191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353280" y="3200400"/>
          <a:ext cx="2790720" cy="2743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53280" y="3200400"/>
                    <a:ext cx="27907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tępującą własność trójkątów prostokątnych odkryli już starożytni matematy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zy wiesz jaka to własność trójkątów prostokątnych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2438280"/>
          <a:ext cx="7772400" cy="411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777240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3T14:37:35Z</dcterms:created>
  <dc:creator>pol</dc:creator>
  <dc:description/>
  <dc:language>en-US</dc:language>
  <cp:lastModifiedBy>x</cp:lastModifiedBy>
  <dcterms:modified xsi:type="dcterms:W3CDTF">2013-03-12T15:25:09Z</dcterms:modified>
  <cp:revision>141</cp:revision>
  <dc:subject/>
  <dc:title>TWIERDZENIE PITAGORASA</dc:title>
</cp:coreProperties>
</file>